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C6AF-782D-4F1B-A537-D3615250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CC1F-9290-4394-B704-995544AFC6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7F16-1920-4347-9B3D-0F3DFBC115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BF48-1469-49C0-9BAB-778AD048C7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BD48-CDC0-46F5-A14F-96B163A644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4625-2442-42EC-AE42-5D9883960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FEB2-90F0-45A8-967D-F41A8B37BD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ABF2-BC1C-42DF-8457-083EB324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09FF-98FE-40DD-A52E-04469FD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A6C7-4578-4115-A45B-993B873B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C738-6362-4119-9609-D2036FAF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3A1F7-E89B-4DCD-B4B8-B7F2E3D4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26B9F-B6BE-4C20-8F82-650B6165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55022-4F14-4606-A92E-E0E0832A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2A3C0-7B4A-42C1-BB7B-E1630B0A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E73DB-A73A-4D44-BF1C-19FF72E8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CED2F-51F3-45C8-8706-D45FE99F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149DA-127F-4C1C-ABF8-DF4F82E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B4CC-A232-41E5-B92B-B3F162DB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6D719-F23A-4B26-A672-2872A39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F8278-B878-4C89-8A90-233E8BE9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154A8-9164-4A57-988E-89EAF564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ABFCE-69CF-4CF6-8926-E7D7B651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C8E77-D6CD-462D-8FE7-EE61FE95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574D-0683-4068-B93A-4DA00563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19FB-5BC3-4482-91FE-E511495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63F0-9089-4036-91F4-8223576B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0272-6EDF-4D98-959A-D189F5F8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7FBF-CD56-4FCE-9CC5-51A43740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FF2A-9DF3-41AE-93CA-CBEBA425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B727-DF5A-4C01-8495-109819F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576360" y="1447920"/>
            <a:ext cx="8523360" cy="75960"/>
            <a:chOff x="576360" y="1447920"/>
            <a:chExt cx="8523360" cy="75960"/>
          </a:xfrm>
        </p:grpSpPr>
        <p:sp>
          <p:nvSpPr>
            <p:cNvPr id="2" name="Line 3"/>
            <p:cNvSpPr/>
            <p:nvPr/>
          </p:nvSpPr>
          <p:spPr>
            <a:xfrm>
              <a:off x="57636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57636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4777-6252-4B72-A7AA-C75EC0EE3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3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D2B0-1BDF-4901-94EB-CE8896B2D1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New Count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ryn H. Bra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burn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ek Chiefs and Settler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(Basil Hal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Picture 4" descr="basilhallcreekchiefs"/>
          <p:cNvPicPr/>
          <p:nvPr/>
        </p:nvPicPr>
        <p:blipFill>
          <a:blip r:embed="rId1"/>
          <a:stretch/>
        </p:blipFill>
        <p:spPr>
          <a:xfrm>
            <a:off x="1211400" y="1752480"/>
            <a:ext cx="7635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5715000"/>
            <a:ext cx="5446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t’s good to be shifty in a New Country.” 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Picture Placeholder 7" descr="IMG_0249.JPG"/>
          <p:cNvPicPr/>
          <p:nvPr/>
        </p:nvPicPr>
        <p:blipFill>
          <a:blip r:embed="rId1"/>
          <a:srcRect l="0" t="0" r="-10058" b="-8553"/>
          <a:stretch/>
        </p:blipFill>
        <p:spPr>
          <a:xfrm>
            <a:off x="1792440" y="612720"/>
            <a:ext cx="6481440" cy="4794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8800" y="6138360"/>
            <a:ext cx="548640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uisiana, Mississippi and AL Territory, ca. 18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3" descr="ludlow map.jpg"/>
          <p:cNvPicPr/>
          <p:nvPr/>
        </p:nvPicPr>
        <p:blipFill>
          <a:blip r:embed="rId1"/>
          <a:stretch/>
        </p:blipFill>
        <p:spPr>
          <a:xfrm>
            <a:off x="1143000" y="1790640"/>
            <a:ext cx="7772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e,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GW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, 85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mination and exploitation of the North American continent by white people of the United States and their governmen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Bradley Map 1812 detail.jpg"/>
          <p:cNvPicPr/>
          <p:nvPr/>
        </p:nvPicPr>
        <p:blipFill>
          <a:blip r:embed="rId1"/>
          <a:stretch/>
        </p:blipFill>
        <p:spPr>
          <a:xfrm>
            <a:off x="738360" y="0"/>
            <a:ext cx="76672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038480" y="3429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p of the United States (detail), Abraham Bradley, 18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Federal Road revised"/>
          <p:cNvPicPr/>
          <p:nvPr/>
        </p:nvPicPr>
        <p:blipFill>
          <a:blip r:embed="rId1"/>
          <a:stretch/>
        </p:blipFill>
        <p:spPr>
          <a:xfrm>
            <a:off x="533520" y="262080"/>
            <a:ext cx="8534160" cy="6367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410080" y="2895480"/>
            <a:ext cx="2895840" cy="703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ederal Road and Other Paths, 1809-18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coach"/>
          <p:cNvPicPr/>
          <p:nvPr/>
        </p:nvPicPr>
        <p:blipFill>
          <a:blip r:embed="rId1"/>
          <a:stretch/>
        </p:blipFill>
        <p:spPr>
          <a:xfrm>
            <a:off x="1244520" y="266760"/>
            <a:ext cx="7016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lumbus, G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Picture 4" descr="basilhallcolumbus"/>
          <p:cNvPicPr/>
          <p:nvPr/>
        </p:nvPicPr>
        <p:blipFill>
          <a:blip r:embed="rId1"/>
          <a:stretch/>
        </p:blipFill>
        <p:spPr>
          <a:xfrm>
            <a:off x="1181160" y="1752480"/>
            <a:ext cx="76946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ontent Placeholder 3" descr="passport.jpg"/>
          <p:cNvPicPr/>
          <p:nvPr/>
        </p:nvPicPr>
        <p:blipFill>
          <a:blip r:embed="rId1"/>
          <a:stretch/>
        </p:blipFill>
        <p:spPr>
          <a:xfrm>
            <a:off x="590400" y="266760"/>
            <a:ext cx="8325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02:51:24Z</dcterms:created>
  <dc:creator>Kathryn Braund</dc:creator>
  <dc:description/>
  <cp:keywords/>
  <dc:language>en-US</dc:language>
  <cp:lastModifiedBy>James Howell</cp:lastModifiedBy>
  <cp:lastPrinted>1904-01-01T00:00:00Z</cp:lastPrinted>
  <dcterms:modified xsi:type="dcterms:W3CDTF">2011-07-12T01:51:20Z</dcterms:modified>
  <cp:revision>24</cp:revision>
  <dc:subject/>
  <dc:title>A New Country</dc:title>
</cp:coreProperties>
</file>