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7A89-AB33-485F-9F56-6BC61C9B9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8EBD-3FFC-4BE1-992A-64017ADFC5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4CDB-8683-4DA5-A08C-8B47DE66A5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D950-D0AF-4F65-849A-09EF7FFC88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043A-E37B-4F28-9DE7-D9E1C0E237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03F2-666B-4C56-A88A-2DC4ECE18C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0492-B752-48C8-BF20-CB77EAE17E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E61C-9BBD-40E2-82BA-02A316D9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5AAD-B7FC-4E91-9521-C4460F00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CF6C-4579-40CF-ABD2-0166CB51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B93F-F3E6-45A5-B9AA-DA71406B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59DC2-AC13-4BC4-BDA7-3450F1C3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A5553-D336-466E-A62F-0C41EB32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B13E1-6528-4663-8514-024A3903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CA220-AB7A-4C9E-92C3-66360C8A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9CC78-58CF-4446-91BC-CC19ED24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1113A-B5B9-4C60-BCBC-972E0A73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E7CE9-0457-490B-9E4D-748CCE32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5F90-3FDD-49C7-9626-9849ED9E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60598-A5DE-4298-B504-C0D763BE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6809D-89B2-4D9C-95F1-59EC7231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2EA15-85AE-482C-AD83-B507A034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5FE10-4A02-4E8C-AFC8-7E3FEF44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CDC82-A738-43FD-B8E6-1345749A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1F32-E0D0-473D-8749-73A0D599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B4F6-5CDC-476D-852C-486B2AEC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DEF1-E108-4DEC-944E-9DDB3C62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D80A-F0C5-4434-9B59-4F1CEC57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323E-7C04-4CC4-827F-CF95A76C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459A-C7B5-4900-871A-406B5F99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298EE-0134-4D26-A19C-4B1F3558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5"/>
          <p:cNvGrpSpPr/>
          <p:nvPr/>
        </p:nvGrpSpPr>
        <p:grpSpPr>
          <a:xfrm>
            <a:off x="576360" y="1447920"/>
            <a:ext cx="8523360" cy="75960"/>
            <a:chOff x="576360" y="1447920"/>
            <a:chExt cx="8523360" cy="75960"/>
          </a:xfrm>
        </p:grpSpPr>
        <p:sp>
          <p:nvSpPr>
            <p:cNvPr id="2" name="Line 3"/>
            <p:cNvSpPr/>
            <p:nvPr/>
          </p:nvSpPr>
          <p:spPr>
            <a:xfrm>
              <a:off x="57636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57636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BC61-3BC8-4B12-BF56-189803D1C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2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12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3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4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3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6506-CAC0-46DE-9EB8-5883FE621F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New Count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ryn H. Bra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burn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eek Chiefs and Settler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(Basil Hall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Picture 4" descr="basilhallcreekchiefs"/>
          <p:cNvPicPr/>
          <p:nvPr/>
        </p:nvPicPr>
        <p:blipFill>
          <a:blip r:embed="rId1"/>
          <a:stretch/>
        </p:blipFill>
        <p:spPr>
          <a:xfrm>
            <a:off x="1211400" y="1752480"/>
            <a:ext cx="7635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5715000"/>
            <a:ext cx="5446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t’s good to be shifty in a New Country.” </a:t>
            </a: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Picture Placeholder 7" descr="IMG_0249.JPG"/>
          <p:cNvPicPr/>
          <p:nvPr/>
        </p:nvPicPr>
        <p:blipFill>
          <a:blip r:embed="rId1"/>
          <a:srcRect l="0" t="0" r="-10058" b="-8553"/>
          <a:stretch/>
        </p:blipFill>
        <p:spPr>
          <a:xfrm>
            <a:off x="1792440" y="612720"/>
            <a:ext cx="6481440" cy="4794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8800" y="6138360"/>
            <a:ext cx="548640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ouisiana, Mississippi and AL Territory, ca. 18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Content Placeholder 3" descr="ludlow map.jpg"/>
          <p:cNvPicPr/>
          <p:nvPr/>
        </p:nvPicPr>
        <p:blipFill>
          <a:blip r:embed="rId1"/>
          <a:stretch/>
        </p:blipFill>
        <p:spPr>
          <a:xfrm>
            <a:off x="1143000" y="1790640"/>
            <a:ext cx="7772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e,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GW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, 85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omination and exploitation of the North American continent by white people of the United States and their governmen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Bradley Map 1812 detail.jpg"/>
          <p:cNvPicPr/>
          <p:nvPr/>
        </p:nvPicPr>
        <p:blipFill>
          <a:blip r:embed="rId1"/>
          <a:stretch/>
        </p:blipFill>
        <p:spPr>
          <a:xfrm>
            <a:off x="738360" y="0"/>
            <a:ext cx="76672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038480" y="3429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p of the United States (detail), Abraham Bradley, 18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Federal Road revised"/>
          <p:cNvPicPr/>
          <p:nvPr/>
        </p:nvPicPr>
        <p:blipFill>
          <a:blip r:embed="rId1"/>
          <a:stretch/>
        </p:blipFill>
        <p:spPr>
          <a:xfrm>
            <a:off x="533520" y="262080"/>
            <a:ext cx="8534160" cy="6367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410080" y="2895480"/>
            <a:ext cx="2895840" cy="703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ederal Road and Other Paths, 1809-18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coach"/>
          <p:cNvPicPr/>
          <p:nvPr/>
        </p:nvPicPr>
        <p:blipFill>
          <a:blip r:embed="rId1"/>
          <a:stretch/>
        </p:blipFill>
        <p:spPr>
          <a:xfrm>
            <a:off x="1244520" y="266760"/>
            <a:ext cx="70167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lumbus, G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4" name="Picture 4" descr="basilhallcolumbus"/>
          <p:cNvPicPr/>
          <p:nvPr/>
        </p:nvPicPr>
        <p:blipFill>
          <a:blip r:embed="rId1"/>
          <a:stretch/>
        </p:blipFill>
        <p:spPr>
          <a:xfrm>
            <a:off x="1181160" y="1752480"/>
            <a:ext cx="76946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ontent Placeholder 3" descr="passport.jpg"/>
          <p:cNvPicPr/>
          <p:nvPr/>
        </p:nvPicPr>
        <p:blipFill>
          <a:blip r:embed="rId1"/>
          <a:stretch/>
        </p:blipFill>
        <p:spPr>
          <a:xfrm>
            <a:off x="590400" y="266760"/>
            <a:ext cx="8325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02:51:24Z</dcterms:created>
  <dc:creator>Kathryn Braund</dc:creator>
  <dc:description/>
  <cp:keywords/>
  <dc:language>en-US</dc:language>
  <cp:lastModifiedBy>James Howell</cp:lastModifiedBy>
  <cp:lastPrinted>1904-01-01T00:00:00Z</cp:lastPrinted>
  <dcterms:modified xsi:type="dcterms:W3CDTF">2011-07-12T01:51:20Z</dcterms:modified>
  <cp:revision>24</cp:revision>
  <dc:subject/>
  <dc:title>A New Country</dc:title>
</cp:coreProperties>
</file>